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A7F-887B-4CDF-8267-0BCAAB7B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6E4-2E46-46E1-8A7E-32C06E0B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464-9790-4BC8-8556-6C38755C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92E-F1F5-43A9-B091-D11ADCED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A20-6597-4CE3-BEBC-CE21EC0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0CF-E1CC-4BB1-AD7E-E477638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6E3-5374-4DCA-85FF-7FF6036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EFB-5CA6-4A7C-B21F-6C7436B3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788-7606-410E-A0FE-B7115E08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6A2-4CC6-4177-A59F-45536F1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0E9-7B32-4ED1-9CE6-06E08765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081-0082-4309-AC83-6868EED5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9DA8-057E-40B9-A4B1-9FDDF07BA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292720" y="549360"/>
            <a:ext cx="340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9:05:30Z</dcterms:created>
  <dc:creator>WINDOWS</dc:creator>
  <dc:description/>
  <dc:language>en-US</dc:language>
  <cp:lastModifiedBy>WINDOWS</cp:lastModifiedBy>
  <dcterms:modified xsi:type="dcterms:W3CDTF">2011-06-08T19:05:44Z</dcterms:modified>
  <cp:revision>1</cp:revision>
  <dc:subject/>
  <dc:title>Slide 1</dc:title>
</cp:coreProperties>
</file>